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04D-7401-4DDE-A61D-614AA50C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CD8-04DE-4D0E-AD28-69C5A6B9C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s.miamioh.edu/~wilsonkg/old/gene2005/chloroplast%20genetic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571B-C05F-452C-86EE-4A369B81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thechelseascrolls.com/tag/chloropla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70A1-79FF-49AD-8D31-3B294675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jordifferences.com/2014/04/difference-between-spermatogenesis-and.html#.VT7rqhzsT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A426-53EC-489E-85E8-F5A4CB9D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tifolio.com/911119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7DE-9E3B-460E-9DB3-6E416CCC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osta from: http://www.cas.miamioh.edu/~wilsonkg/old/gene2005/chloroplast%20genetic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EF1-33A4-49EC-9341-8A99FCC4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esophiestory.co.uk/medical/symptoms-of-mitochondrial-diseas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51C-2898-4777-BCDF-ABD10A66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www.bbc.com/news/health-31069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s://www.thestar.com/news/world/2016/09/27/baby-born-using-three-parent-genetic-engineer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420-0124-4DE1-82BF-1C8B22D1E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F9F8-00AC-4E9A-B5E6-5A8C7F7A9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red.com/2010/01/green-sea-slu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a slug consumes algae when young &amp; keeps the chloroplasts in cert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izontal gene transfer - there are also algae genes (from algae nuclei) in the slug nuclea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B50-5A39-45E3-9C7E-29A1FE29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0D5-F395-4BFD-8292-547A4C9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702-B70A-4F55-8610-A71DE500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3C0-8834-4ECC-98E2-15B852E8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C83-A4D6-47FE-855F-1162D69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AE9-93F7-4631-B438-FD767C9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832-C024-4211-8F91-1D7A0A0F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2EF-8963-47E6-BA4C-8C688710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03F-33AF-4E11-8E7A-95652E74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F2E-CA65-4336-A511-1231ED7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59A-8BF0-4E55-B688-B82059D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2F-1313-4F60-AA1C-98CE879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3A4-6AB1-421C-B6FD-BA2EEF99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chondria &amp; 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2" descr="mito-and-chloro.jpg"/>
          <p:cNvPicPr/>
          <p:nvPr/>
        </p:nvPicPr>
        <p:blipFill>
          <a:blip r:embed="rId1"/>
          <a:srcRect l="0" t="-20899" r="0" b="-20899"/>
          <a:stretch/>
        </p:blipFill>
        <p:spPr>
          <a:xfrm>
            <a:off x="0" y="1989000"/>
            <a:ext cx="914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ogenesis and spermatogenesis[9]"/>
          <p:cNvPicPr/>
          <p:nvPr/>
        </p:nvPicPr>
        <p:blipFill>
          <a:blip r:embed="rId1"/>
          <a:stretch/>
        </p:blipFill>
        <p:spPr>
          <a:xfrm>
            <a:off x="1306440" y="228600"/>
            <a:ext cx="652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nal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Fertilization-911119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OSWEET"/>
          <p:cNvPicPr/>
          <p:nvPr/>
        </p:nvPicPr>
        <p:blipFill>
          <a:blip r:embed="rId1"/>
          <a:stretch/>
        </p:blipFill>
        <p:spPr>
          <a:xfrm>
            <a:off x="2027160" y="1981080"/>
            <a:ext cx="508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itochondrial-symptoms"/>
          <p:cNvPicPr/>
          <p:nvPr/>
        </p:nvPicPr>
        <p:blipFill>
          <a:blip r:embed="rId1"/>
          <a:stretch/>
        </p:blipFill>
        <p:spPr>
          <a:xfrm>
            <a:off x="1909800" y="1752480"/>
            <a:ext cx="5398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gg Sw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icture 1"/>
          <p:cNvPicPr/>
          <p:nvPr/>
        </p:nvPicPr>
        <p:blipFill>
          <a:blip r:embed="rId1"/>
          <a:stretch/>
        </p:blipFill>
        <p:spPr>
          <a:xfrm>
            <a:off x="1068480" y="1981080"/>
            <a:ext cx="700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6" descr="Screen Shot 2016-10-10 at 11.01.54 PM.png"/>
          <p:cNvPicPr/>
          <p:nvPr/>
        </p:nvPicPr>
        <p:blipFill>
          <a:blip r:embed="rId1"/>
          <a:srcRect l="-8021" t="0" r="-8021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lysia chloro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reen_sea_slug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01:45:10Z</dcterms:created>
  <dc:creator>rubina khan</dc:creator>
  <dc:description/>
  <dc:language>en-US</dc:language>
  <cp:lastModifiedBy>rubina khan</cp:lastModifiedBy>
  <dcterms:modified xsi:type="dcterms:W3CDTF">2018-05-10T17:46:32Z</dcterms:modified>
  <cp:revision>22</cp:revision>
  <dc:subject/>
  <dc:title>Cytoplasmic Inheritance</dc:title>
</cp:coreProperties>
</file>